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11D-8B71-446C-95A4-E868F217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BAF-C7CC-46F3-BF9E-9A24642A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87D-146B-441C-ADBA-672BF9E4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289-8547-4F99-B40D-75AD5813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690-73FD-4783-B24C-0E5C35C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F22-8C5C-4480-996B-269DE632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561-F285-4167-97D7-7A0A75F7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0D4-0DBA-49D6-999D-9DDF7842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627-8AEC-4233-890D-E3DAB8C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540-E78A-4633-B35F-A55F12F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4E8-D3C9-42F6-8E62-86ABD59A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E67-2ECB-464A-80B3-82512BA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899E-EBDC-4331-AB00-00AA4AE4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uss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96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Russific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put it simply….. Make everything Russian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holas’s grandfather Alexander III brought it in as a policy during his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wanted one nation with one nationality, one language, one culture and one relig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see a problem here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612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TERACY B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0000"/>
                </a:solidFill>
                <a:latin typeface="Comic Sans MS"/>
              </a:rPr>
              <a:t>PAN SLAV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Comic Sans MS"/>
              </a:rPr>
              <a:t>The movement , especially in the 19</a:t>
            </a:r>
            <a:r>
              <a:rPr b="0" i="1" lang="en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i="1" lang="en" sz="3200" spc="-1" strike="noStrike">
                <a:solidFill>
                  <a:srgbClr val="000000"/>
                </a:solidFill>
                <a:latin typeface="Comic Sans MS"/>
              </a:rPr>
              <a:t> Century, for the union of the Slavic peoples, especially under the control of Tsarist Russia</a:t>
            </a:r>
            <a:r>
              <a:rPr b="0" lang="e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5933" t="24549" r="33154" b="0"/>
          <a:stretch/>
        </p:blipFill>
        <p:spPr>
          <a:xfrm>
            <a:off x="6804000" y="189000"/>
            <a:ext cx="21589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id he do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ind all the Russian people together around one person….. the Ts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other religion, culture or nationality can become more important than Russia so just make everyone Russi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ther layer of control over the Russian people under the aut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make Russia strong and united like other powers e.g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id it invol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ol education was changed and had to be delivered or translated into R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ssian was spoken in the court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religions to be practiced or tolerated except Russian Orthod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thnic minority culture to be celebrated – only Russian cus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Russian clothing to be w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 Russians had to become Russian citizen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ssians were the minority of the empire – only made up 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holic Poles and Asiatic Muslims were pressurised to convert to Russian Orthod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ssian officials were put in to run regional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ws were persecuted for being ‘anti-Rus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a series of POGRO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hrana and army used against those pro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were encouraged to ‘seek out’ those who were anti-Rus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‘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capegoat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 = when things were going well the Russians took the credit but during hard times the ethnic minorities got the blame – this encouraged more people to turn agains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TERACY B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912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POGR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violent mob attack generally against Jews, and often allowed by the forces of law. Can involve killings and/or destruction of homes and properties, businesses, and religious cen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is now also sometimes used to describe attacks against non-Jewish ethnic or religi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5933" t="24549" r="33154" b="0"/>
          <a:stretch/>
        </p:blipFill>
        <p:spPr>
          <a:xfrm>
            <a:off x="6732720" y="1413000"/>
            <a:ext cx="21589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0854" t="27125" r="4485" b="32189"/>
          <a:stretch/>
        </p:blipFill>
        <p:spPr>
          <a:xfrm>
            <a:off x="0" y="1052640"/>
            <a:ext cx="914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1:12:21Z</dcterms:created>
  <dc:creator>sthcampbellc1</dc:creator>
  <dc:description/>
  <dc:language>en-US</dc:language>
  <cp:lastModifiedBy>sthcantleyn1</cp:lastModifiedBy>
  <dcterms:modified xsi:type="dcterms:W3CDTF">2013-08-21T09:51:06Z</dcterms:modified>
  <cp:revision>4</cp:revision>
  <dc:subject/>
  <dc:title>Russification</dc:title>
</cp:coreProperties>
</file>